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A783-C74E-46FA-A443-EC005E5CD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8453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5862600"/>
            <a:ext cx="8453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DFE3-1982-411A-8386-A7C448DBA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760" y="469404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586260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760" y="586260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2094A-D8FB-4B5F-89C1-933D2625E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272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4694040"/>
            <a:ext cx="272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7680" y="4694040"/>
            <a:ext cx="272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5862600"/>
            <a:ext cx="272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5862600"/>
            <a:ext cx="272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7680" y="5862600"/>
            <a:ext cx="272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BF70-F0B2-4FD1-91BF-FC9A37EB54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4694040"/>
            <a:ext cx="8453520" cy="22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5295-E42D-4ED3-997A-D576DF4B24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845352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6DDF-23B6-4723-AE1E-F2EBAFBC4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412524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760" y="4694040"/>
            <a:ext cx="412524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8757-7478-4698-8820-3880290A5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BDC2-B473-4091-9A2D-53E7805CC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6821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5011-6402-4342-93CD-7ED880CB5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760" y="4694040"/>
            <a:ext cx="412524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586260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A1F7-3D82-43A9-A5A2-9EC977D54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412524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760" y="469404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760" y="586260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8F1F-7AC9-4473-84FE-41D52BAE6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760" y="469404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5862600"/>
            <a:ext cx="8453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3250-D366-45D9-B457-085DA7B6C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495760" y="0"/>
            <a:ext cx="3648240" cy="262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4680" y="0"/>
            <a:ext cx="261720" cy="395748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0" y="6472080"/>
            <a:ext cx="9144000" cy="385920"/>
            <a:chOff x="0" y="6472080"/>
            <a:chExt cx="9144000" cy="385920"/>
          </a:xfrm>
        </p:grpSpPr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0" y="6472080"/>
              <a:ext cx="64008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6375240" y="6472080"/>
              <a:ext cx="2768760" cy="3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6933960" y="6476760"/>
            <a:ext cx="212868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ge </a:t>
            </a:r>
            <a:fld id="{CF8B6D12-3DC6-43F5-9AED-98094AECC4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80880" y="4694040"/>
            <a:ext cx="845352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2698920"/>
            <a:ext cx="79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greSQL Community Profil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651120"/>
            <a:ext cx="793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er your title notes for reader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6C56-75B4-44A3-8776-94226AEAA1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76280" y="365040"/>
            <a:ext cx="841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large is your primary database (the database most closely tied to your organization's operations or business)?  If you have a clustered database, or have partitioned your database across multiple servers, please estimate total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5C53-F026-423B-B028-F3AA887C14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76280" y="365040"/>
            <a:ext cx="84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how many servers are you running PostgreSQL supporting production applic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0794-AA0A-45D7-B0FE-DD8D55BC71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many application end users does the primary database suppo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8CE8-E30B-4938-A786-A084B9A2B7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many transactions does the primary database process per 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462D-D431-478C-9AB6-79E6AAC35F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76280" y="365040"/>
            <a:ext cx="84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vendor manufactured your database server hardware (check all that apply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88AC-F4FE-410B-BABC-6C0BB68A43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what operating system does your primary database ru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9E57-1A0A-4F89-8B78-B4126BE8CF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type of applications is the primary database used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D182-EE86-4C5A-A515-73C74BDBD3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76280" y="365040"/>
            <a:ext cx="84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following PostgreSQL feature and tool categories, please pick the two where new features, tools, and further development would matter the most to your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7280-A305-4468-9E1C-1D36B64EF2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76280" y="365040"/>
            <a:ext cx="84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you, or would you, use a paid-licenses enhanced version of PostgreSQL, such as Postgres Plus Advanced Server, Mammoth PostgreSQL, Truviso, or Fujitsu Supported PostgreSQ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FEFD-A203-43E7-B3E4-45B51F3EFE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76280" y="365040"/>
            <a:ext cx="84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you answered any "yes" option in Question 15 above, please check the products which you use or are evalua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5ABA2-3A2E-4140-A5D9-C15080EE79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28760" y="317520"/>
            <a:ext cx="82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vey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720" y="952560"/>
            <a:ext cx="8509320" cy="5207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for the introduction of your presentation her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1FF7-FD89-4538-912F-A7FC647A01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76280" y="365040"/>
            <a:ext cx="84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you answered any "yes" option in Question 16 above, please choose your primary reason for using this enhanced version of PostgreSQ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32AE-3887-4695-A0D8-8825B5E724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12920" y="317520"/>
            <a:ext cx="63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vey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6280" y="4762440"/>
            <a:ext cx="88106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your title notes for reader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76280" y="1270080"/>
          <a:ext cx="2698560" cy="1684080"/>
        </p:xfrm>
        <a:graphic>
          <a:graphicData uri="http://schemas.openxmlformats.org/drawingml/2006/table">
            <a:tbl>
              <a:tblPr/>
              <a:tblGrid>
                <a:gridCol w="1349280"/>
                <a:gridCol w="1349280"/>
              </a:tblGrid>
              <a:tr h="24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Statu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b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Dat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5/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 Dat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9/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rvey Taker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Response Tim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mins, 59 Secon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14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ecf3f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ecf3f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238560" y="1270080"/>
          <a:ext cx="2698560" cy="1644480"/>
        </p:xfrm>
        <a:graphic>
          <a:graphicData uri="http://schemas.openxmlformats.org/drawingml/2006/table">
            <a:tbl>
              <a:tblPr/>
              <a:tblGrid>
                <a:gridCol w="1349280"/>
                <a:gridCol w="134928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Deployment Statu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b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Taker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Response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 Response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ecf3fd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ecf3fd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000840" y="1270080"/>
          <a:ext cx="2698560" cy="1636560"/>
        </p:xfrm>
        <a:graphic>
          <a:graphicData uri="http://schemas.openxmlformats.org/drawingml/2006/table">
            <a:tbl>
              <a:tblPr/>
              <a:tblGrid>
                <a:gridCol w="1349280"/>
                <a:gridCol w="1349280"/>
              </a:tblGrid>
              <a:tr h="24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Deployment Statu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b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ited Via Email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Taker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Response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 Response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nced Email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ed Out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2069-FCBC-4D96-B07C-D04B97ACEC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long have you been using PostgreSQ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D33A-4AC7-40A0-AFDB-6C98B70744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 you use PostgreSQL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D518-DADA-41B1-AF07-B67389AE2B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76280" y="365040"/>
            <a:ext cx="84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you answered either ‘Business’ above, what kind of business is your company in (select all that apply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3D50-CA1C-49D7-B2F1-F44CE6EBCB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other databases do you use in the above capacity (select all that apply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11C0E-9733-4CBE-BAC2-E478EA7E6E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ize is your organization in terms of reven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492D-90A5-4CDC-8548-A68CF93C42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ize is your organization in terms of peop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54A2-5691-4924-A69B-DB30BEA3E3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jeev Vachani</cp:lastModifiedBy>
  <dcterms:modified xsi:type="dcterms:W3CDTF">2007-10-23T13:09:34Z</dcterms:modified>
  <cp:revision>2</cp:revision>
  <dc:subject/>
  <dc:title>PowerPoint Presentation</dc:title>
</cp:coreProperties>
</file>