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5235-1E02-41AD-8987-CE12E57A0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8453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5862600"/>
            <a:ext cx="8453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0590-C0C8-4EB0-B52A-E75A49C60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A537-4273-46A6-BBAE-5B1EBE7C0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469404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7680" y="469404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586260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586260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7680" y="586260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69BA-3689-4B0A-94C6-C7588327F7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4694040"/>
            <a:ext cx="8453520" cy="22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7478-0CFE-40F1-B2DC-71778379A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845352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72B6-02DE-4ACC-B668-2E1C5EF23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5F8B-FF2A-4B29-912A-DEE0EF935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5DD7-C1CC-40D0-8D33-DA7390884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6821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1489-9D7A-4F93-9EF1-98DE41B99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C7EB-6887-4C8D-980E-BB5DC9D3A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3907-1116-420C-B3FE-78BEB1605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5862600"/>
            <a:ext cx="8453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5670-6C40-4B45-B9EC-9BC417811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95760" y="0"/>
            <a:ext cx="3648240" cy="262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4680" y="0"/>
            <a:ext cx="261720" cy="39574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0" y="6472080"/>
            <a:ext cx="9144000" cy="385920"/>
            <a:chOff x="0" y="6472080"/>
            <a:chExt cx="9144000" cy="385920"/>
          </a:xfrm>
        </p:grpSpPr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6472080"/>
              <a:ext cx="64008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6375240" y="6472080"/>
              <a:ext cx="2768760" cy="3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6933960" y="6476760"/>
            <a:ext cx="21286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ge </a:t>
            </a:r>
            <a:fld id="{78765511-022C-43FF-A786-2A03436795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80880" y="4694040"/>
            <a:ext cx="845352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2698920"/>
            <a:ext cx="79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greSQL Community Profil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651120"/>
            <a:ext cx="793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er your title notes for reader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655D-64B3-4B91-B6C8-287647BEC9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76280" y="365040"/>
            <a:ext cx="84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large is your primary database (the database most closely tied to your organization's operations or business)?  If you have a clustered database, or have partitioned your database across multiple servers, please estimate total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F44B-157D-478E-BB6A-893F88541E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how many servers are you running PostgreSQL supporting production applic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F2CD-B471-4551-8D84-12450572DE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any application end users does the primary database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ADF1-7469-4BAE-8BCA-B6A0479FCA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any transactions does the primary database process per 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95D9-E528-4958-91CC-4F2AA77791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vendor manufactured your database server hardware (check all that apply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0AC3-BB36-4112-AC01-2810E97341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what operating system does your primary database r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B18C-2468-4BE0-9D2D-4D9C2C3D69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type of applications is the primary database used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6285-DF2B-4948-A2F1-FC32E18F76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76280" y="365040"/>
            <a:ext cx="84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following PostgreSQL feature and tool categories, please pick the two where new features, tools, and further development would matter the most to you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BD06-8461-4D17-819A-0176ECC863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76280" y="365040"/>
            <a:ext cx="84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you, or would you, use a paid-licenses enhanced version of PostgreSQL, such as Postgres Plus Advanced Server, Mammoth PostgreSQL, Truviso, or Fujitsu Supported PostgreSQ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0BD6-3F1A-4251-9CFD-662346000A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nswered any "yes" option in Question 15 above, please check the products which you use or are evalua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9F75-7AAD-4055-9576-4D61EA83E6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8760" y="317520"/>
            <a:ext cx="82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720" y="952560"/>
            <a:ext cx="8509320" cy="5207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for the introduction of your presentation her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FF4F-E84D-4226-ABDB-EBFCEA35F7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nswered any "yes" option in Question 16 above, please choose your primary reason for using this enhanced version of PostgreSQ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6180-ED80-4947-B5F1-47D698A43A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12920" y="317520"/>
            <a:ext cx="63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6280" y="4762440"/>
            <a:ext cx="8810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your title notes for reader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76280" y="1270080"/>
          <a:ext cx="2698560" cy="1684080"/>
        </p:xfrm>
        <a:graphic>
          <a:graphicData uri="http://schemas.openxmlformats.org/drawingml/2006/table">
            <a:tbl>
              <a:tblPr/>
              <a:tblGrid>
                <a:gridCol w="1349280"/>
                <a:gridCol w="1349280"/>
              </a:tblGrid>
              <a:tr h="24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Statu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b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Dat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5/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 Dat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9/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rvey Taker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Response Tim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mins, 59 Secon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14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ecf3f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ecf3f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38560" y="1270080"/>
          <a:ext cx="2698560" cy="1644480"/>
        </p:xfrm>
        <a:graphic>
          <a:graphicData uri="http://schemas.openxmlformats.org/drawingml/2006/table">
            <a:tbl>
              <a:tblPr/>
              <a:tblGrid>
                <a:gridCol w="1349280"/>
                <a:gridCol w="134928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Deployment Statu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b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ker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ecf3fd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ecf3fd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000840" y="1270080"/>
          <a:ext cx="2698560" cy="1636560"/>
        </p:xfrm>
        <a:graphic>
          <a:graphicData uri="http://schemas.openxmlformats.org/drawingml/2006/table">
            <a:tbl>
              <a:tblPr/>
              <a:tblGrid>
                <a:gridCol w="1349280"/>
                <a:gridCol w="1349280"/>
              </a:tblGrid>
              <a:tr h="24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Deployment Statu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b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ited Via Email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ker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nced Email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ed Out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86C9-7C31-4749-ADDC-3D9CC607EF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long have you been using PostgreSQ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A108-21A8-4DC5-B4C0-2845D7484B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you use PostgreSQL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2B71-B35E-4CD2-8DA7-3038F15E40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nswered either ‘Business’ above, what kind of business is your company in (select all that apply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1A3B-F038-42BC-8CF7-9F53C4A6D1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other databases do you use in the above capacity (select all that apply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388F-F986-4231-AC03-15865881ED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ize is your organization in terms of reven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AA32-E1A1-4630-8CA4-A8F556D874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ize is your organization in terms of peo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6D66-3995-4C51-958A-094FD82F34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jeev Vachani</cp:lastModifiedBy>
  <dcterms:modified xsi:type="dcterms:W3CDTF">2007-10-23T13:09:34Z</dcterms:modified>
  <cp:revision>2</cp:revision>
  <dc:subject/>
  <dc:title>PowerPoint Presentation</dc:title>
</cp:coreProperties>
</file>