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972F4-BC4C-4754-8CF3-58A527B94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8453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0880" y="5862600"/>
            <a:ext cx="8453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C5A78-AD8F-4C7A-A17A-AF8D54F652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8088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276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4E3FA-3EDD-4CB0-AAAB-6BAEA927C7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280" y="469404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7680" y="469404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80880" y="586260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280" y="586260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7680" y="5862600"/>
            <a:ext cx="2721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E9018-B01C-47D2-8821-B1267BF0F8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80880" y="4694040"/>
            <a:ext cx="8453520" cy="22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CEF45-5C3A-40D7-BD36-2E4F7514DB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845352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C5D7D-C001-44C2-A568-62695DD568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5393D-A0F3-4099-AB11-C94E874A84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A9849-4868-4391-AB48-EE7B329C33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682120" cy="19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4AC01-F14B-4126-995C-B82309B52C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8088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619CB-B44B-43DE-8317-767DE8DD2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2760" y="586260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CBB9C-EF18-4A8D-9FB7-92DED5E20A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2760" y="4694040"/>
            <a:ext cx="4125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880" y="5862600"/>
            <a:ext cx="8453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CD529-87A2-4BA2-A293-4F7933A28B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5495760" y="0"/>
            <a:ext cx="3648240" cy="2620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4680" y="0"/>
            <a:ext cx="261720" cy="395748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0" y="6472080"/>
            <a:ext cx="9144000" cy="385920"/>
            <a:chOff x="0" y="6472080"/>
            <a:chExt cx="9144000" cy="385920"/>
          </a:xfrm>
        </p:grpSpPr>
        <p:pic>
          <p:nvPicPr>
            <p:cNvPr id="3" name="" descr=""/>
            <p:cNvPicPr/>
            <p:nvPr/>
          </p:nvPicPr>
          <p:blipFill>
            <a:blip r:embed="rId4"/>
            <a:stretch/>
          </p:blipFill>
          <p:spPr>
            <a:xfrm>
              <a:off x="0" y="6472080"/>
              <a:ext cx="6400800" cy="385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5"/>
            <a:stretch/>
          </p:blipFill>
          <p:spPr>
            <a:xfrm>
              <a:off x="6375240" y="6472080"/>
              <a:ext cx="2768760" cy="3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sldNum" idx="1"/>
          </p:nvPr>
        </p:nvSpPr>
        <p:spPr>
          <a:xfrm>
            <a:off x="6933960" y="6476760"/>
            <a:ext cx="212868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age </a:t>
            </a:r>
            <a:fld id="{7CACF6E1-DCF9-4408-A764-5421C7FC6F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80880" y="4694040"/>
            <a:ext cx="8453520" cy="22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456840" y="274680"/>
            <a:ext cx="86821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62120" y="2698920"/>
            <a:ext cx="793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ostgreSQL Community Profil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651120"/>
            <a:ext cx="793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ter your title notes for reader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B1CDA-4CC0-40D0-8110-75E3465E848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76280" y="365040"/>
            <a:ext cx="841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large is your primary database (the database most closely tied to your organization's operations or business)?  If you have a clustered database, or have partitioned your database across multiple servers, please estimate total si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ADF95-76BD-4536-9BEF-6A59C2DECA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how many servers are you running PostgreSQL supporting production applica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F53D8-BA6A-4BA6-A2F0-30D1054DA12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any application end users does the primary database suppo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99520-A418-4EF7-83AB-1720CFCB60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many transactions does the primary database process per 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D2D21-271C-4502-8B1C-44B3BB34F36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ich vendor manufactured your database server hardware (check all that apply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814C-130F-433D-B4B8-0037D4D61C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n what operating system does your primary database ru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39ED0-FBAE-4AED-A903-83F331453C5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type of applications is the primary database used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64DB-8C32-44F9-9E42-5353BFBD0C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476280" y="365040"/>
            <a:ext cx="84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f the following PostgreSQL feature and tool categories, please pick the two where new features, tools, and further development would matter the most to your organiz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B6AB7-C7F2-4273-82AC-443E8C0F01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476280" y="365040"/>
            <a:ext cx="841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 you, or would you, use a paid-licenses enhanced version of PostgreSQL, such as Postgres Plus Advanced Server, Mammoth PostgreSQL, Truviso, or Fujitsu Supported PostgreSQ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2AE34-E240-492C-93D1-E5E6E36CB42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nswered any "yes" option in Question 15 above, please check the products which you use or are evaluat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459EA-64BD-4C04-B8A0-1958D07972A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28760" y="317520"/>
            <a:ext cx="82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Int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6720" y="952560"/>
            <a:ext cx="8509320" cy="52070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for the introduction of your presentation her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9E547-D5DB-4669-8BCA-BC31AC785A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nswered any "yes" option in Question 16 above, please choose your primary reason for using this enhanced version of PostgreSQ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C5105-4F0F-42AB-9740-298786A89C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12920" y="317520"/>
            <a:ext cx="634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rvey Stati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6280" y="4762440"/>
            <a:ext cx="88106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your title notes for reader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76280" y="1270080"/>
          <a:ext cx="2698560" cy="1684080"/>
        </p:xfrm>
        <a:graphic>
          <a:graphicData uri="http://schemas.openxmlformats.org/drawingml/2006/table">
            <a:tbl>
              <a:tblPr/>
              <a:tblGrid>
                <a:gridCol w="1349280"/>
                <a:gridCol w="1349280"/>
              </a:tblGrid>
              <a:tr h="24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Statu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b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u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Dat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5/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osed Dat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6/29/20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rvey Taker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n Response Time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mins, 59 Secon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14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ecf3f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3200" spc="-1" strike="noStrike">
                          <a:solidFill>
                            <a:srgbClr val="ecf3fd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238560" y="1270080"/>
          <a:ext cx="2698560" cy="1644480"/>
        </p:xfrm>
        <a:graphic>
          <a:graphicData uri="http://schemas.openxmlformats.org/drawingml/2006/table">
            <a:tbl>
              <a:tblPr/>
              <a:tblGrid>
                <a:gridCol w="1349280"/>
                <a:gridCol w="1349280"/>
              </a:tblGrid>
              <a:tr h="246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b Deployment Statu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b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ker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ecf3fd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2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ecf3fd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6000840" y="1270080"/>
          <a:ext cx="2698560" cy="1636560"/>
        </p:xfrm>
        <a:graphic>
          <a:graphicData uri="http://schemas.openxmlformats.org/drawingml/2006/table">
            <a:tbl>
              <a:tblPr/>
              <a:tblGrid>
                <a:gridCol w="1349280"/>
                <a:gridCol w="1349280"/>
              </a:tblGrid>
              <a:tr h="2458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ail Deployment Status: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6dbf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81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vited Via Email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Taker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te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 Responses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nced Email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  <a:tr h="2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ted Out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cf3fd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EEA4-A415-4872-BDE1-42925DA3E7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ow long have you been using PostgreSQ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FB2C4-461F-4F81-A50E-681012FBEC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do you use PostgreSQL fo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47F60-FFC3-40D1-B4F4-BE75FC8072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76280" y="365040"/>
            <a:ext cx="841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f you answered either ‘Business’ above, what kind of business is your company in (select all that apply)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272D4-A3C1-4F91-A1D4-A9A1BC7A0C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other databases do you use in the above capacity (select all that apply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DB345-C0BF-45EB-B18F-901126C8F0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ize is your organization in terms of revenu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35CB9-0B11-40B1-AD77-D22C3A533D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76280" y="365040"/>
            <a:ext cx="84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hat size is your organization in terms of peop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280" y="1270080"/>
            <a:ext cx="6985080" cy="38894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720" y="5238720"/>
            <a:ext cx="85726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ter notes to introduce and explain this slide to the reader her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5E16A-9D2E-438A-A3D2-29CC9A9A89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jeev Vachani</cp:lastModifiedBy>
  <dcterms:modified xsi:type="dcterms:W3CDTF">2007-10-23T13:09:34Z</dcterms:modified>
  <cp:revision>2</cp:revision>
  <dc:subject/>
  <dc:title>PowerPoint Presentation</dc:title>
</cp:coreProperties>
</file>